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2608-2101-48CC-8382-CFFBC7B3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DE0-BEB9-4B82-A266-0DCAB50A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4CA-64B9-4578-AD6A-067E6B35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853-AFB5-445B-AFC7-540ED1FD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1DE7-B242-4C67-84B4-2528FC70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C52E-4575-4769-BFDA-C8235470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70E5-2BC4-48D6-8351-644B8A6E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2EC8-A7D3-416F-B3CB-C1DE4EEF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5AE7-A1C4-44C2-B5BE-FFFDB996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3E44-CC16-40D3-98B2-FCB2AC7D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57FB-C49D-4561-9481-F6495D69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C7D-1A36-447C-9249-1A9842B0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CC46-7EDF-46F0-A214-4030DA48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A191-FDC1-41C8-9DEA-2CE81A87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66C4-0DD2-4940-9781-E93FECF4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1917-75F3-4F4F-A2EE-739AF293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7467-AE0C-4489-8633-F7050DD9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81C-E356-419A-81EA-486B4285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9A65-A94B-4DAF-A181-0BB4672D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39B5-F6AB-46BC-A04F-6EF6DEA5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F16-02D0-4C52-B48D-5DC0C720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814-DD03-4A7F-805C-08E5086D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0B6-032F-46F8-88B5-D389B3D0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FC2D-7FA5-4089-9473-96BEE902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2E86-0000-4DE8-AE61-A4E6816EE8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0DC9-172E-47EB-A736-EFA994E49A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394164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счет потребления топлива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52520"/>
            <a:ext cx="8121600" cy="25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счета количества топлива (бензин, дизельное топливо), необходимого для обеспечения работы машин и механизмов на весь период строитель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асчеты производятся на основании данных норм потребления топлива различными машинами за час работы, потребности в основных строительных машинах и механизмах и потребности в транспортных средствах и грузоперевозк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28640" y="48150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добавить новый проект или открыть существующий. При создании нового проекта вводится его наименование и продолжительность строительств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585800" y="1166760"/>
            <a:ext cx="635652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270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списка машин и механизмов, потребляющих топлив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62596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исок машин и механизмов для проекта формируется на основе справочника машин или вводится вручну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35080" y="1050840"/>
            <a:ext cx="6978600" cy="519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бота со справочником машин и механизмов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16040" y="4919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программном модуле имеется возможность изменения пользователем справочника машин и механизмов. При добавлении новой машины или механизма необходимо ввести наименование и нормативное количество потребления топлив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227240" y="1249200"/>
            <a:ext cx="71722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 количества топлива, необходимого для обеспечения работы машин и механизм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1147680" y="1774800"/>
            <a:ext cx="75344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0T07:10:18Z</dcterms:modified>
  <cp:revision>200</cp:revision>
  <dc:subject/>
  <dc:title>Слайд 1</dc:title>
</cp:coreProperties>
</file>